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EC23-1BED-4A48-BFAD-D3B495B99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E228-6E7C-4910-9E86-DA3A137F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F40-8EF3-448A-8AC0-CD540EE2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EE0-C449-429D-942F-3AE68F43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024-2AD4-44D8-8CD7-C0A8A56E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F0D-FB22-4EB5-BD2F-ABBDC8F3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4DD-580F-448B-B4E8-21B5B561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9D9-2306-4934-B66F-C98F7797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822-CB20-4428-A74F-83068D65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959-0677-411B-A831-D93AC741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DD2-FE19-4D63-A8EE-92A25E78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EA2-DF88-4D2A-AFCA-6E401B20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917-CAFF-4D5D-B17F-D2AF350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001-B33E-40F4-B314-DB9C0547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D8F7-922C-4D82-A16F-15B1CE4BE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OGO MEDICINA.png"/>
          <p:cNvPicPr/>
          <p:nvPr/>
        </p:nvPicPr>
        <p:blipFill>
          <a:blip r:embed="rId1"/>
          <a:stretch/>
        </p:blipFill>
        <p:spPr>
          <a:xfrm>
            <a:off x="142920" y="0"/>
            <a:ext cx="8688240" cy="2357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324000" y="2653920"/>
            <a:ext cx="850104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6/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хемија 2 (Б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а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ја Д. Жи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179280" y="5346720"/>
            <a:ext cx="5112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резонанц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79280" y="5950080"/>
            <a:ext cx="896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o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фуран и 125,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o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иоф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250920" y="260280"/>
          <a:ext cx="865656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65656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5"/>
          <p:cNvSpPr/>
          <p:nvPr/>
        </p:nvSpPr>
        <p:spPr>
          <a:xfrm>
            <a:off x="826920" y="328464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О или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6"/>
          <p:cNvGrpSpPr/>
          <p:nvPr/>
        </p:nvGrpSpPr>
        <p:grpSpPr>
          <a:xfrm>
            <a:off x="1834920" y="404640"/>
            <a:ext cx="360720" cy="1150920"/>
            <a:chOff x="1834920" y="404640"/>
            <a:chExt cx="360720" cy="1150920"/>
          </a:xfrm>
        </p:grpSpPr>
        <p:sp>
          <p:nvSpPr>
            <p:cNvPr id="92" name="AutoShape 7"/>
            <p:cNvSpPr/>
            <p:nvPr/>
          </p:nvSpPr>
          <p:spPr>
            <a:xfrm>
              <a:off x="1908360" y="404640"/>
              <a:ext cx="71640" cy="1150920"/>
            </a:xfrm>
            <a:prstGeom prst="upArrow">
              <a:avLst>
                <a:gd name="adj1" fmla="val 38722"/>
                <a:gd name="adj2" fmla="val 512677"/>
              </a:avLst>
            </a:prstGeom>
            <a:solidFill>
              <a:srgbClr val="6600cc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8"/>
            <p:cNvGrpSpPr/>
            <p:nvPr/>
          </p:nvGrpSpPr>
          <p:grpSpPr>
            <a:xfrm>
              <a:off x="1834920" y="1267560"/>
              <a:ext cx="360720" cy="287280"/>
              <a:chOff x="1834920" y="1267560"/>
              <a:chExt cx="360720" cy="287280"/>
            </a:xfrm>
          </p:grpSpPr>
          <p:sp>
            <p:nvSpPr>
              <p:cNvPr id="94" name="AutoShape 9"/>
              <p:cNvSpPr/>
              <p:nvPr/>
            </p:nvSpPr>
            <p:spPr>
              <a:xfrm rot="5400000">
                <a:off x="1930680" y="1266480"/>
                <a:ext cx="97200" cy="289080"/>
              </a:xfrm>
              <a:prstGeom prst="upArrow">
                <a:avLst>
                  <a:gd name="adj1" fmla="val 38852"/>
                  <a:gd name="adj2" fmla="val 6568"/>
                </a:avLst>
              </a:prstGeom>
              <a:solidFill>
                <a:srgbClr val="6600cc"/>
              </a:solidFill>
              <a:ln w="3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10"/>
              <p:cNvSpPr/>
              <p:nvPr/>
            </p:nvSpPr>
            <p:spPr>
              <a:xfrm>
                <a:off x="2051280" y="1267560"/>
                <a:ext cx="14436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Text Box 11"/>
          <p:cNvSpPr/>
          <p:nvPr/>
        </p:nvSpPr>
        <p:spPr>
          <a:xfrm>
            <a:off x="2413080" y="620640"/>
            <a:ext cx="3024000" cy="1457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момент који обухвата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2"/>
          <p:cNvGraphicFramePr/>
          <p:nvPr/>
        </p:nvGraphicFramePr>
        <p:xfrm>
          <a:off x="982800" y="3724200"/>
          <a:ext cx="174600" cy="1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724200"/>
                    <a:ext cx="17460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Group 14"/>
          <p:cNvGrpSpPr/>
          <p:nvPr/>
        </p:nvGrpSpPr>
        <p:grpSpPr>
          <a:xfrm>
            <a:off x="1909440" y="2560320"/>
            <a:ext cx="360720" cy="863640"/>
            <a:chOff x="1909440" y="2560320"/>
            <a:chExt cx="360720" cy="863640"/>
          </a:xfrm>
        </p:grpSpPr>
        <p:sp>
          <p:nvSpPr>
            <p:cNvPr id="100" name="AutoShape 15"/>
            <p:cNvSpPr/>
            <p:nvPr/>
          </p:nvSpPr>
          <p:spPr>
            <a:xfrm flipV="1">
              <a:off x="1982880" y="2559960"/>
              <a:ext cx="71640" cy="863640"/>
            </a:xfrm>
            <a:prstGeom prst="upArrow">
              <a:avLst>
                <a:gd name="adj1" fmla="val 38722"/>
                <a:gd name="adj2" fmla="val 384708"/>
              </a:avLst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6"/>
            <p:cNvGrpSpPr/>
            <p:nvPr/>
          </p:nvGrpSpPr>
          <p:grpSpPr>
            <a:xfrm>
              <a:off x="1909440" y="2560680"/>
              <a:ext cx="360720" cy="215640"/>
              <a:chOff x="1909440" y="2560680"/>
              <a:chExt cx="360720" cy="215640"/>
            </a:xfrm>
          </p:grpSpPr>
          <p:sp>
            <p:nvSpPr>
              <p:cNvPr id="102" name="AutoShape 17"/>
              <p:cNvSpPr/>
              <p:nvPr/>
            </p:nvSpPr>
            <p:spPr>
              <a:xfrm rot="5400000">
                <a:off x="2017440" y="2524320"/>
                <a:ext cx="73080" cy="289080"/>
              </a:xfrm>
              <a:prstGeom prst="upArrow">
                <a:avLst>
                  <a:gd name="adj1" fmla="val 38852"/>
                  <a:gd name="adj2" fmla="val 8735"/>
                </a:avLst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8"/>
              <p:cNvSpPr/>
              <p:nvPr/>
            </p:nvSpPr>
            <p:spPr>
              <a:xfrm flipV="1">
                <a:off x="2125800" y="2560320"/>
                <a:ext cx="14436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19"/>
          <p:cNvGrpSpPr/>
          <p:nvPr/>
        </p:nvGrpSpPr>
        <p:grpSpPr>
          <a:xfrm>
            <a:off x="1909440" y="3424320"/>
            <a:ext cx="360720" cy="581040"/>
            <a:chOff x="1909440" y="3424320"/>
            <a:chExt cx="360720" cy="581040"/>
          </a:xfrm>
        </p:grpSpPr>
        <p:sp>
          <p:nvSpPr>
            <p:cNvPr id="105" name="AutoShape 20"/>
            <p:cNvSpPr/>
            <p:nvPr/>
          </p:nvSpPr>
          <p:spPr>
            <a:xfrm>
              <a:off x="1982520" y="3424320"/>
              <a:ext cx="69480" cy="581040"/>
            </a:xfrm>
            <a:prstGeom prst="upArrow">
              <a:avLst>
                <a:gd name="adj1" fmla="val 38722"/>
                <a:gd name="adj2" fmla="val 266870"/>
              </a:avLst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1"/>
            <p:cNvGrpSpPr/>
            <p:nvPr/>
          </p:nvGrpSpPr>
          <p:grpSpPr>
            <a:xfrm>
              <a:off x="1909440" y="3789360"/>
              <a:ext cx="360720" cy="215640"/>
              <a:chOff x="1909440" y="3789360"/>
              <a:chExt cx="360720" cy="215640"/>
            </a:xfrm>
          </p:grpSpPr>
          <p:sp>
            <p:nvSpPr>
              <p:cNvPr id="107" name="AutoShape 22"/>
              <p:cNvSpPr/>
              <p:nvPr/>
            </p:nvSpPr>
            <p:spPr>
              <a:xfrm rot="5400000">
                <a:off x="2017440" y="3752640"/>
                <a:ext cx="73080" cy="289080"/>
              </a:xfrm>
              <a:prstGeom prst="upArrow">
                <a:avLst>
                  <a:gd name="adj1" fmla="val 38852"/>
                  <a:gd name="adj2" fmla="val 8735"/>
                </a:avLst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3"/>
              <p:cNvSpPr/>
              <p:nvPr/>
            </p:nvSpPr>
            <p:spPr>
              <a:xfrm>
                <a:off x="2125800" y="3789360"/>
                <a:ext cx="14436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Text Box 24"/>
          <p:cNvSpPr/>
          <p:nvPr/>
        </p:nvSpPr>
        <p:spPr>
          <a:xfrm>
            <a:off x="2357280" y="2492280"/>
            <a:ext cx="2864160" cy="145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моменти који обухватају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ке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5429160" y="620640"/>
            <a:ext cx="3714840" cy="31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рибуција електронске густине у пиролу резултат је два ефекта који делују у супротним правцима: резонанциони ефекат превлад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3"/>
          <p:cNvGrpSpPr/>
          <p:nvPr/>
        </p:nvGrpSpPr>
        <p:grpSpPr>
          <a:xfrm>
            <a:off x="2195280" y="4653000"/>
            <a:ext cx="504360" cy="1302840"/>
            <a:chOff x="2195280" y="4653000"/>
            <a:chExt cx="504360" cy="1302840"/>
          </a:xfrm>
        </p:grpSpPr>
        <p:sp>
          <p:nvSpPr>
            <p:cNvPr id="112" name="AutoShape 34"/>
            <p:cNvSpPr/>
            <p:nvPr/>
          </p:nvSpPr>
          <p:spPr>
            <a:xfrm>
              <a:off x="2297880" y="4653000"/>
              <a:ext cx="100080" cy="1302840"/>
            </a:xfrm>
            <a:prstGeom prst="upArrow">
              <a:avLst>
                <a:gd name="adj1" fmla="val 38722"/>
                <a:gd name="adj2" fmla="val 41543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35"/>
            <p:cNvGrpSpPr/>
            <p:nvPr/>
          </p:nvGrpSpPr>
          <p:grpSpPr>
            <a:xfrm>
              <a:off x="2195280" y="5630040"/>
              <a:ext cx="504360" cy="325440"/>
              <a:chOff x="2195280" y="5630040"/>
              <a:chExt cx="504360" cy="325440"/>
            </a:xfrm>
          </p:grpSpPr>
          <p:sp>
            <p:nvSpPr>
              <p:cNvPr id="114" name="AutoShape 36"/>
              <p:cNvSpPr/>
              <p:nvPr/>
            </p:nvSpPr>
            <p:spPr>
              <a:xfrm rot="5400000">
                <a:off x="2342160" y="5590080"/>
                <a:ext cx="110160" cy="404280"/>
              </a:xfrm>
              <a:prstGeom prst="upArrow">
                <a:avLst>
                  <a:gd name="adj1" fmla="val 38852"/>
                  <a:gd name="adj2" fmla="val 81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7"/>
              <p:cNvSpPr/>
              <p:nvPr/>
            </p:nvSpPr>
            <p:spPr>
              <a:xfrm>
                <a:off x="2497680" y="5630040"/>
                <a:ext cx="20196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 Box 38"/>
          <p:cNvSpPr/>
          <p:nvPr/>
        </p:nvSpPr>
        <p:spPr>
          <a:xfrm>
            <a:off x="3276720" y="4797360"/>
            <a:ext cx="50418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ђени диполни моме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5 - 2,1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445640" y="9036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445640" y="9036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2"/>
          <p:cNvGraphicFramePr/>
          <p:nvPr/>
        </p:nvGraphicFramePr>
        <p:xfrm>
          <a:off x="179280" y="260280"/>
          <a:ext cx="1656000" cy="19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0280"/>
                    <a:ext cx="165600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43"/>
          <p:cNvGraphicFramePr/>
          <p:nvPr/>
        </p:nvGraphicFramePr>
        <p:xfrm>
          <a:off x="250920" y="2349360"/>
          <a:ext cx="1523880" cy="18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349360"/>
                    <a:ext cx="1523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31"/>
          <p:cNvGraphicFramePr/>
          <p:nvPr/>
        </p:nvGraphicFramePr>
        <p:xfrm>
          <a:off x="755640" y="4600440"/>
          <a:ext cx="1224000" cy="193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4600440"/>
                    <a:ext cx="122400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3"/>
          <p:cNvGrpSpPr/>
          <p:nvPr/>
        </p:nvGrpSpPr>
        <p:grpSpPr>
          <a:xfrm>
            <a:off x="2339640" y="903240"/>
            <a:ext cx="360720" cy="1079280"/>
            <a:chOff x="2339640" y="903240"/>
            <a:chExt cx="360720" cy="1079280"/>
          </a:xfrm>
        </p:grpSpPr>
        <p:sp>
          <p:nvSpPr>
            <p:cNvPr id="126" name="AutoShape 4"/>
            <p:cNvSpPr/>
            <p:nvPr/>
          </p:nvSpPr>
          <p:spPr>
            <a:xfrm>
              <a:off x="2413080" y="903240"/>
              <a:ext cx="71640" cy="1079280"/>
            </a:xfrm>
            <a:prstGeom prst="upArrow">
              <a:avLst>
                <a:gd name="adj1" fmla="val 38722"/>
                <a:gd name="adj2" fmla="val 480765"/>
              </a:avLst>
            </a:prstGeom>
            <a:solidFill>
              <a:srgbClr val="6600cc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5"/>
            <p:cNvGrpSpPr/>
            <p:nvPr/>
          </p:nvGrpSpPr>
          <p:grpSpPr>
            <a:xfrm>
              <a:off x="2339640" y="1712520"/>
              <a:ext cx="360720" cy="269640"/>
              <a:chOff x="2339640" y="1712520"/>
              <a:chExt cx="360720" cy="269640"/>
            </a:xfrm>
          </p:grpSpPr>
          <p:sp>
            <p:nvSpPr>
              <p:cNvPr id="128" name="AutoShape 6"/>
              <p:cNvSpPr/>
              <p:nvPr/>
            </p:nvSpPr>
            <p:spPr>
              <a:xfrm rot="5400000">
                <a:off x="2438280" y="1702440"/>
                <a:ext cx="91440" cy="289080"/>
              </a:xfrm>
              <a:prstGeom prst="upArrow">
                <a:avLst>
                  <a:gd name="adj1" fmla="val 38852"/>
                  <a:gd name="adj2" fmla="val 6981"/>
                </a:avLst>
              </a:prstGeom>
              <a:solidFill>
                <a:srgbClr val="6600cc"/>
              </a:solidFill>
              <a:ln w="3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"/>
              <p:cNvSpPr/>
              <p:nvPr/>
            </p:nvSpPr>
            <p:spPr>
              <a:xfrm>
                <a:off x="2556000" y="1712520"/>
                <a:ext cx="14436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9"/>
          <p:cNvGrpSpPr/>
          <p:nvPr/>
        </p:nvGrpSpPr>
        <p:grpSpPr>
          <a:xfrm>
            <a:off x="2341080" y="2848320"/>
            <a:ext cx="358920" cy="1083960"/>
            <a:chOff x="2341080" y="2848320"/>
            <a:chExt cx="358920" cy="1083960"/>
          </a:xfrm>
        </p:grpSpPr>
        <p:sp>
          <p:nvSpPr>
            <p:cNvPr id="131" name="AutoShape 10"/>
            <p:cNvSpPr/>
            <p:nvPr/>
          </p:nvSpPr>
          <p:spPr>
            <a:xfrm flipV="1">
              <a:off x="2414160" y="2847960"/>
              <a:ext cx="71280" cy="1083960"/>
            </a:xfrm>
            <a:prstGeom prst="upArrow">
              <a:avLst>
                <a:gd name="adj1" fmla="val 38722"/>
                <a:gd name="adj2" fmla="val 485289"/>
              </a:avLst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2341080" y="2848680"/>
              <a:ext cx="358920" cy="270720"/>
              <a:chOff x="2341080" y="2848680"/>
              <a:chExt cx="358920" cy="270720"/>
            </a:xfrm>
          </p:grpSpPr>
          <p:sp>
            <p:nvSpPr>
              <p:cNvPr id="133" name="AutoShape 12"/>
              <p:cNvSpPr/>
              <p:nvPr/>
            </p:nvSpPr>
            <p:spPr>
              <a:xfrm rot="5400000">
                <a:off x="2439000" y="2840760"/>
                <a:ext cx="91800" cy="287640"/>
              </a:xfrm>
              <a:prstGeom prst="upArrow">
                <a:avLst>
                  <a:gd name="adj1" fmla="val 38852"/>
                  <a:gd name="adj2" fmla="val 6919"/>
                </a:avLst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3"/>
              <p:cNvSpPr/>
              <p:nvPr/>
            </p:nvSpPr>
            <p:spPr>
              <a:xfrm flipV="1">
                <a:off x="2556360" y="2848680"/>
                <a:ext cx="143640" cy="27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Text Box 14"/>
          <p:cNvSpPr/>
          <p:nvPr/>
        </p:nvSpPr>
        <p:spPr>
          <a:xfrm>
            <a:off x="2556000" y="903240"/>
            <a:ext cx="2944800" cy="1457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момент који обухвата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2700360" y="2774880"/>
            <a:ext cx="2663640" cy="145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момент који обухват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ке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5429160" y="357120"/>
            <a:ext cx="3535560" cy="3503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рибуција електронске густине у фурану и тиофену резултат је два ефекта који делују у супротним правцима: индуктивни ефекат превлад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8"/>
          <p:cNvGrpSpPr/>
          <p:nvPr/>
        </p:nvGrpSpPr>
        <p:grpSpPr>
          <a:xfrm>
            <a:off x="2197080" y="5301000"/>
            <a:ext cx="502560" cy="1152360"/>
            <a:chOff x="2197080" y="5301000"/>
            <a:chExt cx="502560" cy="1152360"/>
          </a:xfrm>
        </p:grpSpPr>
        <p:sp>
          <p:nvSpPr>
            <p:cNvPr id="139" name="AutoShape 19"/>
            <p:cNvSpPr/>
            <p:nvPr/>
          </p:nvSpPr>
          <p:spPr>
            <a:xfrm flipV="1">
              <a:off x="2298960" y="5300640"/>
              <a:ext cx="99720" cy="1152360"/>
            </a:xfrm>
            <a:prstGeom prst="upArrow">
              <a:avLst>
                <a:gd name="adj1" fmla="val 38722"/>
                <a:gd name="adj2" fmla="val 36877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20"/>
            <p:cNvGrpSpPr/>
            <p:nvPr/>
          </p:nvGrpSpPr>
          <p:grpSpPr>
            <a:xfrm>
              <a:off x="2197080" y="5301720"/>
              <a:ext cx="502560" cy="287640"/>
              <a:chOff x="2197080" y="5301720"/>
              <a:chExt cx="502560" cy="287640"/>
            </a:xfrm>
          </p:grpSpPr>
          <p:sp>
            <p:nvSpPr>
              <p:cNvPr id="141" name="AutoShape 21"/>
              <p:cNvSpPr/>
              <p:nvPr/>
            </p:nvSpPr>
            <p:spPr>
              <a:xfrm flipV="1" rot="16200000">
                <a:off x="2349720" y="5243400"/>
                <a:ext cx="97560" cy="403200"/>
              </a:xfrm>
              <a:prstGeom prst="upArrow">
                <a:avLst>
                  <a:gd name="adj1" fmla="val 38852"/>
                  <a:gd name="adj2" fmla="val 912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2"/>
              <p:cNvSpPr/>
              <p:nvPr/>
            </p:nvSpPr>
            <p:spPr>
              <a:xfrm flipV="1">
                <a:off x="2498400" y="5301360"/>
                <a:ext cx="201240" cy="28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 Box 23"/>
          <p:cNvSpPr/>
          <p:nvPr/>
        </p:nvSpPr>
        <p:spPr>
          <a:xfrm>
            <a:off x="2484360" y="4941720"/>
            <a:ext cx="5330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ђени диполни момен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2700360" y="5518080"/>
            <a:ext cx="2952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 = 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 = Ѕ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08000" y="115920"/>
            <a:ext cx="2448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8"/>
          <p:cNvGraphicFramePr/>
          <p:nvPr/>
        </p:nvGraphicFramePr>
        <p:xfrm>
          <a:off x="395280" y="765000"/>
          <a:ext cx="1728720" cy="15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17287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9"/>
          <p:cNvGraphicFramePr/>
          <p:nvPr/>
        </p:nvGraphicFramePr>
        <p:xfrm>
          <a:off x="468360" y="2565360"/>
          <a:ext cx="172728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565360"/>
                    <a:ext cx="17272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0"/>
          <p:cNvGraphicFramePr/>
          <p:nvPr/>
        </p:nvGraphicFramePr>
        <p:xfrm>
          <a:off x="755640" y="5229360"/>
          <a:ext cx="1235160" cy="13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5229360"/>
                    <a:ext cx="12351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0" y="1916280"/>
            <a:ext cx="4968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е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х С 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219640" y="1773360"/>
            <a:ext cx="41054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ог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759280" y="3303720"/>
            <a:ext cx="27003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-зованог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684360" y="2584440"/>
            <a:ext cx="1582560" cy="149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>
            <a:off x="1618920" y="2584440"/>
            <a:ext cx="647640" cy="286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H="1">
            <a:off x="1979640" y="2584440"/>
            <a:ext cx="28728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2266920" y="2584440"/>
            <a:ext cx="936720" cy="293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H="1">
            <a:off x="4716000" y="2708280"/>
            <a:ext cx="1150920" cy="12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 flipH="1">
            <a:off x="5219640" y="3645000"/>
            <a:ext cx="72072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68360" y="2565360"/>
            <a:ext cx="71928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276720" y="189000"/>
            <a:ext cx="1873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15"/>
          <p:cNvGraphicFramePr/>
          <p:nvPr/>
        </p:nvGraphicFramePr>
        <p:xfrm>
          <a:off x="3635280" y="620640"/>
          <a:ext cx="115272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620640"/>
                    <a:ext cx="11527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6"/>
          <p:cNvGraphicFramePr/>
          <p:nvPr/>
        </p:nvGraphicFramePr>
        <p:xfrm>
          <a:off x="179280" y="2997360"/>
          <a:ext cx="5146920" cy="38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997360"/>
                    <a:ext cx="514692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755640" y="4437000"/>
            <a:ext cx="79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резонанције: 179,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324000" y="2276640"/>
          <a:ext cx="8638920" cy="17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863892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"/>
          <p:cNvGrpSpPr/>
          <p:nvPr/>
        </p:nvGrpSpPr>
        <p:grpSpPr>
          <a:xfrm>
            <a:off x="2266560" y="549720"/>
            <a:ext cx="360720" cy="1223640"/>
            <a:chOff x="2266560" y="549720"/>
            <a:chExt cx="360720" cy="1223640"/>
          </a:xfrm>
        </p:grpSpPr>
        <p:sp>
          <p:nvSpPr>
            <p:cNvPr id="171" name="AutoShape 5"/>
            <p:cNvSpPr/>
            <p:nvPr/>
          </p:nvSpPr>
          <p:spPr>
            <a:xfrm flipV="1">
              <a:off x="2340000" y="549360"/>
              <a:ext cx="71640" cy="1223640"/>
            </a:xfrm>
            <a:prstGeom prst="upArrow">
              <a:avLst>
                <a:gd name="adj1" fmla="val 38722"/>
                <a:gd name="adj2" fmla="val 545070"/>
              </a:avLst>
            </a:prstGeom>
            <a:solidFill>
              <a:srgbClr val="6600cc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"/>
            <p:cNvGrpSpPr/>
            <p:nvPr/>
          </p:nvGrpSpPr>
          <p:grpSpPr>
            <a:xfrm>
              <a:off x="2266560" y="550080"/>
              <a:ext cx="360720" cy="305640"/>
              <a:chOff x="2266560" y="550080"/>
              <a:chExt cx="360720" cy="305640"/>
            </a:xfrm>
          </p:grpSpPr>
          <p:sp>
            <p:nvSpPr>
              <p:cNvPr id="173" name="AutoShape 7"/>
              <p:cNvSpPr/>
              <p:nvPr/>
            </p:nvSpPr>
            <p:spPr>
              <a:xfrm flipV="1" rot="16200000">
                <a:off x="2359440" y="558360"/>
                <a:ext cx="103320" cy="289080"/>
              </a:xfrm>
              <a:prstGeom prst="upArrow">
                <a:avLst>
                  <a:gd name="adj1" fmla="val 38852"/>
                  <a:gd name="adj2" fmla="val 6179"/>
                </a:avLst>
              </a:prstGeom>
              <a:solidFill>
                <a:srgbClr val="6600cc"/>
              </a:solidFill>
              <a:ln w="3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8"/>
              <p:cNvSpPr/>
              <p:nvPr/>
            </p:nvSpPr>
            <p:spPr>
              <a:xfrm flipV="1">
                <a:off x="2482920" y="549720"/>
                <a:ext cx="144360" cy="30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9"/>
          <p:cNvGrpSpPr/>
          <p:nvPr/>
        </p:nvGrpSpPr>
        <p:grpSpPr>
          <a:xfrm>
            <a:off x="2410920" y="2421360"/>
            <a:ext cx="360720" cy="1223640"/>
            <a:chOff x="2410920" y="2421360"/>
            <a:chExt cx="360720" cy="1223640"/>
          </a:xfrm>
        </p:grpSpPr>
        <p:sp>
          <p:nvSpPr>
            <p:cNvPr id="176" name="AutoShape 10"/>
            <p:cNvSpPr/>
            <p:nvPr/>
          </p:nvSpPr>
          <p:spPr>
            <a:xfrm flipV="1">
              <a:off x="2484360" y="2421000"/>
              <a:ext cx="71640" cy="1223640"/>
            </a:xfrm>
            <a:prstGeom prst="upArrow">
              <a:avLst>
                <a:gd name="adj1" fmla="val 38722"/>
                <a:gd name="adj2" fmla="val 545070"/>
              </a:avLst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1"/>
            <p:cNvGrpSpPr/>
            <p:nvPr/>
          </p:nvGrpSpPr>
          <p:grpSpPr>
            <a:xfrm>
              <a:off x="2410920" y="2421720"/>
              <a:ext cx="360720" cy="305640"/>
              <a:chOff x="2410920" y="2421720"/>
              <a:chExt cx="360720" cy="305640"/>
            </a:xfrm>
          </p:grpSpPr>
          <p:sp>
            <p:nvSpPr>
              <p:cNvPr id="178" name="AutoShape 12"/>
              <p:cNvSpPr/>
              <p:nvPr/>
            </p:nvSpPr>
            <p:spPr>
              <a:xfrm rot="5400000">
                <a:off x="2503800" y="2430720"/>
                <a:ext cx="103320" cy="289080"/>
              </a:xfrm>
              <a:prstGeom prst="upArrow">
                <a:avLst>
                  <a:gd name="adj1" fmla="val 38852"/>
                  <a:gd name="adj2" fmla="val 6179"/>
                </a:avLst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 flipV="1">
                <a:off x="2627280" y="2421360"/>
                <a:ext cx="144360" cy="30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14"/>
          <p:cNvSpPr/>
          <p:nvPr/>
        </p:nvSpPr>
        <p:spPr>
          <a:xfrm>
            <a:off x="2627280" y="549360"/>
            <a:ext cx="3024360" cy="1457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момент који обухвата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2771640" y="2421000"/>
            <a:ext cx="2664000" cy="145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момент који обухват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ке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5364000" y="1628640"/>
            <a:ext cx="3313440" cy="1798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резонанциони и индуктивни ефекат у пиридину делују у истом прав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19"/>
          <p:cNvGraphicFramePr/>
          <p:nvPr/>
        </p:nvGraphicFramePr>
        <p:xfrm>
          <a:off x="395280" y="260280"/>
          <a:ext cx="165564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65564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20"/>
          <p:cNvGraphicFramePr/>
          <p:nvPr/>
        </p:nvGraphicFramePr>
        <p:xfrm>
          <a:off x="468360" y="2133720"/>
          <a:ext cx="1735200" cy="20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133720"/>
                    <a:ext cx="17352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21"/>
          <p:cNvGraphicFramePr/>
          <p:nvPr/>
        </p:nvGraphicFramePr>
        <p:xfrm>
          <a:off x="539640" y="4437000"/>
          <a:ext cx="2376720" cy="21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437000"/>
                    <a:ext cx="23767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395280" y="1341360"/>
            <a:ext cx="3456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е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х С ато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788000" y="2060640"/>
            <a:ext cx="3456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ог 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140360" y="3213000"/>
            <a:ext cx="500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ог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 flipH="1">
            <a:off x="395280" y="2997360"/>
            <a:ext cx="1548000" cy="14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 flipH="1">
            <a:off x="1332000" y="2997360"/>
            <a:ext cx="611280" cy="24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H="1">
            <a:off x="1547280" y="2997360"/>
            <a:ext cx="39564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1943280" y="2997360"/>
            <a:ext cx="900000" cy="25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 flipH="1">
            <a:off x="4066920" y="2852640"/>
            <a:ext cx="865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 flipH="1">
            <a:off x="4932360" y="4076640"/>
            <a:ext cx="72072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 flipH="1">
            <a:off x="3131640" y="2924280"/>
            <a:ext cx="28764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179280" y="189000"/>
            <a:ext cx="3600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лијум-катј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0" y="2565360"/>
            <a:ext cx="2951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попуњ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2987640" y="2565360"/>
            <a:ext cx="1511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21"/>
          <p:cNvGraphicFramePr/>
          <p:nvPr/>
        </p:nvGraphicFramePr>
        <p:xfrm>
          <a:off x="0" y="3359160"/>
          <a:ext cx="4896000" cy="34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9160"/>
                    <a:ext cx="489600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2"/>
          <p:cNvGraphicFramePr/>
          <p:nvPr/>
        </p:nvGraphicFramePr>
        <p:xfrm>
          <a:off x="3780000" y="189000"/>
          <a:ext cx="467964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89000"/>
                    <a:ext cx="467964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5"/>
          <p:cNvSpPr/>
          <p:nvPr/>
        </p:nvSpPr>
        <p:spPr>
          <a:xfrm>
            <a:off x="2357280" y="357120"/>
            <a:ext cx="3600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лијум-катј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539640" y="1628640"/>
          <a:ext cx="816156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16156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1547640" y="692280"/>
            <a:ext cx="6696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члани хетероцикли са једним хетероато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2411280" y="2637000"/>
          <a:ext cx="4846680" cy="18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484668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Box 3"/>
          <p:cNvSpPr/>
          <p:nvPr/>
        </p:nvSpPr>
        <p:spPr>
          <a:xfrm>
            <a:off x="2411280" y="465300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фен              фуран             п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971640" y="18900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пирола, фурана и тиофен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al-Knorr-ова мет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116000" y="1557360"/>
          <a:ext cx="691524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691524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1763640" y="3429000"/>
            <a:ext cx="5256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1" strike="noStrike">
              <a:ln w="381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25000" y="2852640"/>
            <a:ext cx="85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95280" y="1268280"/>
            <a:ext cx="7921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трофилна супституција одвија се знатно лакше у односу на бензен и углавном у положају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5"/>
          <p:cNvGraphicFramePr/>
          <p:nvPr/>
        </p:nvGraphicFramePr>
        <p:xfrm>
          <a:off x="593640" y="2708280"/>
          <a:ext cx="779472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2708280"/>
                    <a:ext cx="779472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Box 5"/>
          <p:cNvSpPr/>
          <p:nvPr/>
        </p:nvSpPr>
        <p:spPr>
          <a:xfrm>
            <a:off x="2138040" y="580536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О, S или 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270720" y="404640"/>
            <a:ext cx="51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фен-доказна реа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3"/>
          <p:cNvGraphicFramePr/>
          <p:nvPr/>
        </p:nvGraphicFramePr>
        <p:xfrm>
          <a:off x="539640" y="1268280"/>
          <a:ext cx="83106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3106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Box 4"/>
          <p:cNvSpPr/>
          <p:nvPr/>
        </p:nvSpPr>
        <p:spPr>
          <a:xfrm>
            <a:off x="2127240" y="3213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232960" y="5229360"/>
            <a:ext cx="24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офе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мноплаве бо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2"/>
          <p:cNvSpPr/>
          <p:nvPr/>
        </p:nvSpPr>
        <p:spPr>
          <a:xfrm>
            <a:off x="338400" y="620640"/>
            <a:ext cx="87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лежавање положаја у молекулу тио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1332000" y="52293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тиенил        2-тенил            3-теноил        3- те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1116000" y="1916280"/>
          <a:ext cx="755496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55496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44560" y="476280"/>
            <a:ext cx="66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тиофена и његових дерив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2"/>
          <p:cNvGraphicFramePr/>
          <p:nvPr/>
        </p:nvGraphicFramePr>
        <p:xfrm>
          <a:off x="468360" y="2060640"/>
          <a:ext cx="661356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661356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Box 3"/>
          <p:cNvSpPr/>
          <p:nvPr/>
        </p:nvSpPr>
        <p:spPr>
          <a:xfrm>
            <a:off x="829080" y="3357720"/>
            <a:ext cx="22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-сукци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5219640" y="3357720"/>
            <a:ext cx="26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yer-ов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3"/>
          <p:cNvGraphicFramePr/>
          <p:nvPr/>
        </p:nvGraphicFramePr>
        <p:xfrm>
          <a:off x="684360" y="4292640"/>
          <a:ext cx="691200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292640"/>
                    <a:ext cx="69120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2"/>
          <p:cNvGraphicFramePr/>
          <p:nvPr/>
        </p:nvGraphicFramePr>
        <p:xfrm>
          <a:off x="1116000" y="1773360"/>
          <a:ext cx="6229440" cy="17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22944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2"/>
          <p:cNvSpPr/>
          <p:nvPr/>
        </p:nvSpPr>
        <p:spPr>
          <a:xfrm>
            <a:off x="826920" y="333360"/>
            <a:ext cx="7274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тио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ан  је у киселој средини за разлику од пирола и фу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1116000" y="3716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филна супститу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1042920" y="4221000"/>
          <a:ext cx="6624720" cy="17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221000"/>
                    <a:ext cx="662472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6"/>
          <p:cNvSpPr/>
          <p:nvPr/>
        </p:nvSpPr>
        <p:spPr>
          <a:xfrm>
            <a:off x="2627280" y="6165720"/>
            <a:ext cx="457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електрон-донорск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он-привлачн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5156640" y="364500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ји катј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тиофена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вање, сулфоновање, ациловање, халоген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3"/>
          <p:cNvGraphicFramePr/>
          <p:nvPr/>
        </p:nvGraphicFramePr>
        <p:xfrm>
          <a:off x="190440" y="1585800"/>
          <a:ext cx="8570880" cy="50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585800"/>
                    <a:ext cx="8570880" cy="50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тиофена</a:t>
            </a:r>
            <a:br>
              <a:rPr sz="5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1835280" y="1844640"/>
          <a:ext cx="619272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44640"/>
                    <a:ext cx="619272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тиоф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281160" y="1920960"/>
          <a:ext cx="857232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1920960"/>
                    <a:ext cx="857232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ls-Alder-ова реак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826920" y="1762200"/>
          <a:ext cx="7558200" cy="47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62200"/>
                    <a:ext cx="755820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тиофен:син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2"/>
          <p:cNvGraphicFramePr/>
          <p:nvPr/>
        </p:nvGraphicFramePr>
        <p:xfrm>
          <a:off x="61920" y="2090880"/>
          <a:ext cx="8772480" cy="400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20" y="2090880"/>
                    <a:ext cx="877248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Box 4"/>
          <p:cNvSpPr/>
          <p:nvPr/>
        </p:nvSpPr>
        <p:spPr>
          <a:xfrm flipH="1">
            <a:off x="900000" y="3573360"/>
            <a:ext cx="11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88640" y="616572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-2-меркаптобензалдех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1547640" y="3645000"/>
            <a:ext cx="4392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иклични е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и сулф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24000" y="5516640"/>
            <a:ext cx="7777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а хетероциклична 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95280" y="907920"/>
            <a:ext cx="770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а једињења у чијој структури се налазе хетероатоми (кисеоник, сумп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а који учествују у изградњи прсте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24000" y="3068640"/>
            <a:ext cx="842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роматична хетероциклична 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тиофен: електрофилна супститу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 се лакше у положају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355680" y="2708280"/>
          <a:ext cx="829620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2708280"/>
                    <a:ext cx="829620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55640" y="1773360"/>
            <a:ext cx="7020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ückel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правило ароматичн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24000" y="2565360"/>
            <a:ext cx="846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арни циклични системи састављени само о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х атома који имају          (4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лектрона ( гд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да буде 0,1,2,3...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казују нарочиту стабил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26920" y="47628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и ароматични систе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179280" y="765000"/>
            <a:ext cx="842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фицитарна ароматична хетероциклична једињења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4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а делокализованих на 4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24000" y="407664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фицитарна ароматична хетероциклична једињења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4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она делокализованих на 4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то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, фуран, тиофен.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31640" y="2928960"/>
            <a:ext cx="828216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азује базне (и друге) особине секундарних амин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0" y="4214880"/>
            <a:ext cx="8964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 четири атома угљеника и атом азота су тригонални, тј. ѕр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571920" y="1571760"/>
            <a:ext cx="1500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3203640" y="189000"/>
          <a:ext cx="21844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89000"/>
                    <a:ext cx="21844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11"/>
          <p:cNvSpPr/>
          <p:nvPr/>
        </p:nvSpPr>
        <p:spPr>
          <a:xfrm>
            <a:off x="3203640" y="260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900000" y="1193760"/>
          <a:ext cx="755964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3760"/>
                    <a:ext cx="755964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9"/>
          <p:cNvSpPr/>
          <p:nvPr/>
        </p:nvSpPr>
        <p:spPr>
          <a:xfrm>
            <a:off x="1547640" y="4005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&gt; III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V &gt; II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468360" y="5157720"/>
            <a:ext cx="662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резонанције: 83,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22"/>
          <p:cNvGraphicFramePr/>
          <p:nvPr/>
        </p:nvGraphicFramePr>
        <p:xfrm>
          <a:off x="179280" y="189000"/>
          <a:ext cx="8928360" cy="61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928360" cy="61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79280" y="1413000"/>
            <a:ext cx="39610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е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х С 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175280" y="1773360"/>
            <a:ext cx="4968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ог атома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443640" y="2708280"/>
            <a:ext cx="27003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-зованог атома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H="1">
            <a:off x="898560" y="2565360"/>
            <a:ext cx="1225440" cy="93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1546200" y="2565360"/>
            <a:ext cx="722160" cy="208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2411280" y="2565360"/>
            <a:ext cx="71640" cy="43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484360" y="2637000"/>
            <a:ext cx="1006560" cy="1800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H="1">
            <a:off x="4786200" y="2565360"/>
            <a:ext cx="362160" cy="81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H="1">
            <a:off x="5796000" y="3068640"/>
            <a:ext cx="72072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843280" y="333360"/>
            <a:ext cx="3456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н и Тиоф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14"/>
          <p:cNvGraphicFramePr/>
          <p:nvPr/>
        </p:nvGraphicFramePr>
        <p:xfrm>
          <a:off x="0" y="2992320"/>
          <a:ext cx="5977080" cy="38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92320"/>
                    <a:ext cx="597708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Box 14"/>
          <p:cNvSpPr/>
          <p:nvPr/>
        </p:nvSpPr>
        <p:spPr>
          <a:xfrm>
            <a:off x="6021360" y="580536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О или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09:27:42Z</dcterms:created>
  <dc:creator>Rastko Vukicevic</dc:creator>
  <dc:description/>
  <dc:language>en-US</dc:language>
  <cp:lastModifiedBy>Corporate Edition</cp:lastModifiedBy>
  <dcterms:modified xsi:type="dcterms:W3CDTF">2017-09-04T11:41:04Z</dcterms:modified>
  <cp:revision>382</cp:revision>
  <dc:subject/>
  <dc:title>Slide 1</dc:title>
</cp:coreProperties>
</file>